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88A-444C-40F4-AB70-D90413849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676-92BD-40AE-A6C5-AFE0C30E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4237-9AF7-405E-BEDE-2D850801C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7014-D82F-4870-AAC5-1D129009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FC6-F01A-4A5F-9CCB-E8E60204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730-F48E-408F-B1A7-695CCD6B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C03E-D7DE-4034-A6C9-DDCDC227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1518-014B-4E88-A10A-7AA1A3BA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76DF-4229-4B11-9752-B70437B4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122-E19C-4C37-B182-5D025879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86EC-C270-4F0B-8050-D168BA9C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738D-CD84-48CB-9FC6-787BD101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4F57-A458-4B24-A199-46BF0371D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axim Andrada – Georgian</a:t>
            </a:r>
            <a:r>
              <a:rPr b="1" i="1" lang="ro-RO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Mă numesc Maxim Andrad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Georgiana 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m 17 ani,sunt elevă la liceul teoretic “Ion Agârbiceanu” in clasa a X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a D.Îmi place să ascult muzică,să cânt,să dansez şi să o ajut pe mama mea la nevoiele casnice.Eu locuiesc in comuna Surduc din Judeţul Săla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4:34:51Z</dcterms:created>
  <dc:creator> </dc:creator>
  <dc:description/>
  <dc:language>en-US</dc:language>
  <cp:lastModifiedBy> </cp:lastModifiedBy>
  <dcterms:modified xsi:type="dcterms:W3CDTF">2011-10-06T14:27:19Z</dcterms:modified>
  <cp:revision>3</cp:revision>
  <dc:subject/>
  <dc:title>Maxim Andrada – Georgiana</dc:title>
</cp:coreProperties>
</file>